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06D-4099-45D7-9792-E1060747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92D-6CF4-4659-AC1D-D5401294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308-A7E9-4EAE-B849-8EE0EA20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534-DBEA-467D-8F2D-1FAAC35C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3E1-C419-4A5C-B0DE-D31C730F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A18-E7AC-4169-B343-3BDAA966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7D8-82D8-4FA9-9849-86E60C6A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388-6C3D-4039-8B34-5F1D3A92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FFB-C806-473B-BE4D-69EE1566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785-B868-4B12-92FA-1C755F42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BB2-49C2-4566-81F2-2B847395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985-D35F-4127-83C1-35DCDED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6F5F-84CA-45EA-AC78-9A8F1D850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rtistic%20leaves"/>
          <p:cNvPicPr/>
          <p:nvPr/>
        </p:nvPicPr>
        <p:blipFill>
          <a:blip r:embed="rId1"/>
          <a:stretch/>
        </p:blipFill>
        <p:spPr>
          <a:xfrm>
            <a:off x="-3060720" y="-20430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513160" y="7410600"/>
            <a:ext cx="8459640" cy="703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LEAVES AND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olar%20panel"/>
          <p:cNvPicPr/>
          <p:nvPr/>
        </p:nvPicPr>
        <p:blipFill>
          <a:blip r:embed="rId1"/>
          <a:stretch/>
        </p:blipFill>
        <p:spPr>
          <a:xfrm>
            <a:off x="755640" y="849240"/>
            <a:ext cx="770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Leaves work in a similar way to the solar cell. They both need a lot of light energy to work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Photosynthesis takes place in the </a:t>
            </a:r>
            <a:r>
              <a:rPr b="1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chloroplasts</a:t>
            </a:r>
            <a:r>
              <a:rPr b="0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inside the leaf cel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Chloroplasts contain </a:t>
            </a:r>
            <a:r>
              <a:rPr b="1" lang="en-GB" sz="4000" spc="-1" strike="noStrike">
                <a:solidFill>
                  <a:srgbClr val="99cc00"/>
                </a:solidFill>
                <a:latin typeface="Segoe UI"/>
                <a:ea typeface="Segoe UI"/>
              </a:rPr>
              <a:t>chlorophyll</a:t>
            </a: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, a green pigment that takes in energy from the sunlight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All green parts of plants are able to photosynthesis because they contain chlorophy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Hoh%20River%20Rain%20Forest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00000"/>
                </a:solidFill>
                <a:latin typeface="Segoe UI"/>
                <a:ea typeface="Segoe UI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af"/>
          <p:cNvPicPr/>
          <p:nvPr/>
        </p:nvPicPr>
        <p:blipFill>
          <a:blip r:embed="rId1"/>
          <a:stretch/>
        </p:blipFill>
        <p:spPr>
          <a:xfrm>
            <a:off x="2484360" y="1700280"/>
            <a:ext cx="450540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9640" y="27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ISAD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4360" y="4076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NG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835280" y="609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020000" y="141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7561440" y="4076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84360" y="5013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1619280" y="285264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161928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619280" y="3357720"/>
            <a:ext cx="865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1763640" y="3860640"/>
            <a:ext cx="792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763640" y="4508640"/>
            <a:ext cx="792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1835280" y="4941720"/>
            <a:ext cx="144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 flipV="1">
            <a:off x="3132000" y="5805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 flipH="1">
            <a:off x="6803640" y="177336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 flipH="1">
            <a:off x="6803640" y="4221000"/>
            <a:ext cx="6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34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are palisade cells special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ts of chloroplasts, which contain chlorophyll to catch ligh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ng and thin, so they pack closely together to collec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They are at the top of the leaves, to ge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does the carbon dioxide get inside the l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leaf_cross_section_labled"/>
          <p:cNvPicPr/>
          <p:nvPr/>
        </p:nvPicPr>
        <p:blipFill>
          <a:blip r:embed="rId1"/>
          <a:stretch/>
        </p:blipFill>
        <p:spPr>
          <a:xfrm>
            <a:off x="1187280" y="1484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5:01:06Z</dcterms:created>
  <dc:creator>Jo test</dc:creator>
  <dc:description/>
  <dc:language>en-US</dc:language>
  <cp:lastModifiedBy>oskar jaskiewicz</cp:lastModifiedBy>
  <dcterms:modified xsi:type="dcterms:W3CDTF">2014-08-19T12:42:19Z</dcterms:modified>
  <cp:revision>9</cp:revision>
  <dc:subject/>
  <dc:title>Slide 1</dc:title>
</cp:coreProperties>
</file>